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18B-141A-43F5-8E73-21DFC611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462-0887-465A-85E5-9F0136AC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F93-0807-41C4-8090-89CFB7E6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255-F906-43BC-95CC-4A474657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AEA2-4710-419D-A044-D249ACA9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AB1A-101C-4D36-AD4C-34BAD4E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36E6-6812-44EC-9375-C0A5FBDD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A91A-DF9C-44DB-81D0-ECC363A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F6AD-1E6C-4045-BC41-158B4598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42EE-EC4C-4E81-8225-BDF1E399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6E04-28FA-4AAF-947D-113A680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C3F-F600-4426-B527-88ED0305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303-B0DF-4E81-AD77-0C3D3CC1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4AAC-9126-4D4B-97B7-F5D65130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1FE0-C58B-4029-90D6-7476B5A1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49E8-2C08-4C86-B307-514808DB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EF4-2A0C-4EF8-B285-A983FBE2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FF2-55C2-4A65-8006-CFFCAEB9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8E3-3BC7-46A1-8397-BF6BC96D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727-E105-4B6E-BB3A-C45FCB9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A53-DFCC-4074-A94C-47DA87C0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ECD-6CF1-4EE8-8A74-0B0DE5A5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11E-8945-476D-92BB-51FCB6E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D20-ADDA-4F07-B634-A11CEA5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0716-D0D7-4FB0-8982-2BD6C1F5FC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D87-DA55-4C28-A139-3552D520E1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4000" y="979920"/>
            <a:ext cx="46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UMERIČKI N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26240" y="2154240"/>
            <a:ext cx="728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staje uređivanje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kvantitativni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odat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mjereni na  intervalnoj ili omjernoj sk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08600" y="3511440"/>
            <a:ext cx="68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Ako je</a:t>
            </a: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broj kvantitativnih podataka ma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eba ih urediti po velič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jedinačni, negrupirani numerički pod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39840" y="423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87280" y="4799160"/>
                <a:ext cx="4753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xalignl</m:t>
                    </m:r>
                    <m:sSub>
                      <m:e>
                        <m:sSub>
                          <m:e>
                            <m:eqArr>
                              <m:e>
                                <m:r>
                                  <m:t xml:space="preserve">N</m:t>
                                </m:r>
                              </m:e>
                            </m:eqArr>
                          </m:e>
                          <m:sub/>
                        </m:sSub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166760" y="495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003400" y="5688000"/>
                <a:ext cx="3262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7488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26920" y="1628640"/>
                <a:ext cx="77407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826920" y="4030560"/>
                <a:ext cx="770436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12760" y="665640"/>
            <a:ext cx="760752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9966"/>
                </a:solidFill>
                <a:latin typeface="Verdana"/>
              </a:rPr>
              <a:t>Grafički prikazi numeričkog ni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9966"/>
                </a:solidFill>
                <a:latin typeface="Verdana"/>
              </a:rPr>
              <a:t>(distribucije frekven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linijski (</a:t>
            </a:r>
            <a:r>
              <a:rPr b="1" lang="hr-HR" sz="2400" spc="-1" strike="noStrike">
                <a:solidFill>
                  <a:srgbClr val="ff0066"/>
                </a:solidFill>
                <a:latin typeface="Verdana"/>
              </a:rPr>
              <a:t>poligon frekvencij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ovršinski (</a:t>
            </a:r>
            <a:r>
              <a:rPr b="1" lang="hr-HR" sz="2400" spc="-1" strike="noStrike">
                <a:solidFill>
                  <a:srgbClr val="ff0066"/>
                </a:solidFill>
                <a:latin typeface="Verdana"/>
              </a:rPr>
              <a:t>histogram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Grafikon kumulativnog niza je </a:t>
            </a:r>
            <a:r>
              <a:rPr b="1" lang="hr-HR" sz="2400" spc="-1" strike="noStrike">
                <a:solidFill>
                  <a:srgbClr val="ff0066"/>
                </a:solidFill>
                <a:latin typeface="Verdana"/>
              </a:rPr>
              <a:t>KUMU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azi: diskretno i kontinuirano obiljež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istribucija sa i bez razred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923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38160" y="944640"/>
            <a:ext cx="42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Histogram (površinski grafik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825480"/>
            <a:ext cx="8604360" cy="591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859040" y="39384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igon frekvencija (linijski grafik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50760" y="1844640"/>
            <a:ext cx="758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ko diskretno numeričko obilježje ima veliki broj modaliteta ili ako se grupiraju podaci kontinuirane numeričke varijable s velikim rasponom varijacije, formira s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bucija frekvencija s razredima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67880" y="992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Verdana"/>
              </a:rPr>
              <a:t>Distribucija frekvencija s razre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3933720"/>
                <a:ext cx="719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856520" y="399420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nja granica i-tog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900000" y="4552920"/>
                <a:ext cx="719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692360" y="46990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gornja  granica i-tog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690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up uređenih parova razreda i apsolutnih frekvencije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51000" y="1628640"/>
                <a:ext cx="6129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9640" y="2563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up uređenih parova razreda i relativnih  frekvencije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60360" y="3448080"/>
                <a:ext cx="568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87280" y="4365720"/>
                <a:ext cx="5832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63480" y="51786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zove se 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distribucija frekven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 obilježjem u razred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82840" y="628488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voreni razr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1860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Za potrebe grupiranja broj razreda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i veličina razreda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mogu se odrediti pomoću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turgesovog pravila.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26920" y="3095640"/>
                <a:ext cx="77774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620640"/>
            <a:ext cx="72741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9966"/>
                </a:solidFill>
                <a:latin typeface="Verdana"/>
              </a:rPr>
              <a:t>Grafički prikaz (pojedinačni, negrupirani numerički pod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dijagram točaka (dot dijagr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dijagramom Stablo-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(S-L dijagram, Stem-and-Leaf Diagra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- Usporedba dvaju nizova negrupiranih numeričkih podataka na dvostrukom S-L dijagra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Kod grafičkog prikazivanja negrupiranih numeričkih podataka, uputno ih je poredati po velič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9544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2541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kupni troškovi za 120 anketiranih osoba (prema zadatku 2.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52520" y="1773360"/>
                <a:ext cx="63882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≈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okruže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iklad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239840" y="4643280"/>
            <a:ext cx="75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=120 (anketiranih turista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ilježje: ukupni trošak u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mira se distribucija frekvencija s osam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ličine 300, posljednji razred je iz praktičnih razloga veličine 9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1452600"/>
            <a:ext cx="5761080" cy="4713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21280" y="609480"/>
            <a:ext cx="3751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igon frekv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očke se crtaju u sredini razre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1658880"/>
            <a:ext cx="7417080" cy="4649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55840" y="476280"/>
            <a:ext cx="5637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umulativni niz “manje 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empirijska funkcija distribu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čke se crtaju na gornjoj granici raz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08720" cy="513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32720" cy="3816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06080" y="555480"/>
            <a:ext cx="72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25.  Rastavljeni brakovi prema dobi muža u RH 1999. god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seg skupa je 37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56360" y="1639800"/>
            <a:ext cx="58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adane su nominalne gra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treba ih urediti;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rave gr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drediti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veličine razreda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isključivo na temelju donjih gran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32000" y="3429000"/>
                <a:ext cx="3203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,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700360" y="4605480"/>
                <a:ext cx="2087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642680" y="4083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Npr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39840" y="531972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ko su razredi različitih veličina treba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korigirati frekven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95520" y="1843920"/>
            <a:ext cx="47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ko su svi razredi različitih veli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40000" y="2298600"/>
                <a:ext cx="1584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9480" y="3375000"/>
            <a:ext cx="60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edna veličina razreda se pojavljuje više pu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bazna veličina razred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4221000"/>
                <a:ext cx="19447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87280" y="14954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poligonu frekvencija (ili hisogramu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) se na osi apscisa nanosi mjerilo za obilježje (</a:t>
            </a:r>
            <a:r>
              <a:rPr b="1" lang="hr-HR" sz="2400" spc="-1" strike="noStrike">
                <a:solidFill>
                  <a:srgbClr val="990000"/>
                </a:solidFill>
                <a:latin typeface="Verdana"/>
              </a:rPr>
              <a:t>prave granic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), a na osi ordinata aritmetičko mjerilo za </a:t>
            </a:r>
            <a:r>
              <a:rPr b="1" lang="hr-HR" sz="2400" spc="-1" strike="noStrike">
                <a:solidFill>
                  <a:srgbClr val="990000"/>
                </a:solidFill>
                <a:latin typeface="Verdana"/>
              </a:rPr>
              <a:t>korigirane frekvencij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 Točka na poligonu frekvencija se crta u </a:t>
            </a:r>
            <a:r>
              <a:rPr b="1" lang="hr-HR" sz="2400" spc="-1" strike="noStrike">
                <a:solidFill>
                  <a:srgbClr val="339966"/>
                </a:solidFill>
                <a:latin typeface="Verdana"/>
              </a:rPr>
              <a:t>sredini razred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4119480"/>
            <a:ext cx="78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Verdana"/>
              </a:rPr>
              <a:t>Razredna sredin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– poluzbroj donje i gor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granice raz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00000" y="5157720"/>
                <a:ext cx="28083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231440" y="5661000"/>
            <a:ext cx="21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di primjer 2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42920" y="1508040"/>
            <a:ext cx="5184720" cy="4321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640560" y="1787400"/>
            <a:ext cx="225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zna velič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zreda j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ekvencije s veličinom razreda 5 se ne mijenj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va se podijeli s 2, a zadnja s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28720"/>
            <a:ext cx="7704000" cy="328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379440"/>
            <a:ext cx="86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Negrupirani numerički poda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18  Broj dionica DBA banke koje su otkupile 24 os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23640" y="5146560"/>
            <a:ext cx="729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) Uredite navedene kvantitativne podat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) Niz prikažite S-L dijagramom i dijagramom s toč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47640" y="1579680"/>
          <a:ext cx="730908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579680"/>
                    <a:ext cx="73090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444320" y="92376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Rastavljeni brakovi prema dobi muža u RH, 1999. g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Histogram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95480" y="404640"/>
            <a:ext cx="73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Kumulativni niz “manje od”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ntinuirano numeričko obilježje s            velikim brojem modal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88880" y="2421000"/>
            <a:ext cx="57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umulativni niz se uvijek sastavlja 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RIGINALNI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bilo apsolut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li relativnih frekven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45240" y="4292640"/>
            <a:ext cx="675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a grafu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kumulant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, točke se crta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1" i="1" lang="hr-HR" sz="2400" spc="-1" strike="noStrike">
                <a:solidFill>
                  <a:srgbClr val="ff6600"/>
                </a:solidFill>
                <a:latin typeface="Verdana"/>
              </a:rPr>
              <a:t>gornjoj granici razred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kojem pripad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Tako se i interpretir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59280" y="1574640"/>
          <a:ext cx="5545080" cy="48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574640"/>
                    <a:ext cx="554508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22120" y="1844640"/>
            <a:ext cx="1828800" cy="446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50920" y="3025800"/>
            <a:ext cx="83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2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5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7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195640" y="256536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1889280" y="2048040"/>
            <a:ext cx="127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umulativ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83520" y="1052640"/>
            <a:ext cx="50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umulativni niz (iz apsolutnih frekven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7632720" cy="3745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37280" y="104292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jagram Stablo-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14560" y="1916280"/>
            <a:ext cx="51148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2549520"/>
            <a:ext cx="7848720" cy="4119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7520" y="111456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ijagram s točkama (Do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14560" y="1916280"/>
            <a:ext cx="51148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632720" cy="446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76480" y="3333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vostruki S-L dij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13640" y="907920"/>
            <a:ext cx="74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oj bodova na prvom kolokviju iz statistike za dvije grupe zadata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7120" y="257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12000" y="2205000"/>
                <a:ext cx="30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621440" y="2193840"/>
            <a:ext cx="41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daliteti numeričke varij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42320" y="277020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psolutne frekvencij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716360" y="2781360"/>
                <a:ext cx="2952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47640" y="3573360"/>
                <a:ext cx="2808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4005360"/>
                <a:ext cx="3528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47640" y="5256360"/>
                <a:ext cx="2376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00720" y="5183280"/>
                <a:ext cx="2950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16200" y="692280"/>
            <a:ext cx="570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Ako numerička varijabla poprima mali bro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modaliteta, a broj  podataka je veli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28640" y="460692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gu se koristiti i relativne frekven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4040" y="2060640"/>
            <a:ext cx="3895920" cy="403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03640" y="1052640"/>
                <a:ext cx="2808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84200" y="3284640"/>
            <a:ext cx="52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PIRIJSKA FUNKCIJA DISTRIBUCIJE (IZ RELATIVNIH FREKVENCIJA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0160" y="171612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UMULATIVNI NIZ (IZ APSOLUTNIH FREKVEN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47640" y="2133720"/>
                <a:ext cx="4608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47640" y="4221000"/>
                <a:ext cx="4680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0080" y="89856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zvedeni nizov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3:23:37Z</dcterms:created>
  <dc:creator>Mirjana Čižmešija</dc:creator>
  <dc:description/>
  <dc:language>en-US</dc:language>
  <cp:lastModifiedBy>mcizmesija</cp:lastModifiedBy>
  <dcterms:modified xsi:type="dcterms:W3CDTF">2007-03-05T11:01:43Z</dcterms:modified>
  <cp:revision>23</cp:revision>
  <dc:subject/>
  <dc:title>Slide 1</dc:title>
</cp:coreProperties>
</file>